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2BF-0278-4A1A-81C8-BC3216EF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813-50C9-498D-9148-4D1CFC40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EDE-A7FC-47AD-9CB2-D3E81E12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DB8-A566-4993-B5FD-4E68FF60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55A-B976-46C6-B19F-B2D3A3CF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E51-5DDE-478E-8788-ED41A0EB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17B-ACA0-44BE-BFFE-92287CB0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9FA-6DA4-4FDC-85CC-65E7CD7A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D79-8EFA-438D-89F1-7FB659D2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46D-0F33-4FA7-9136-D548C34B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CAD-F83B-450D-BFE4-1C29B3FA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54E-E795-4A12-8C80-0F1C3C08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6B87-798C-44B2-8608-3A172A468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House Projec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Year 2006 -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3733920"/>
            <a:ext cx="1630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ream house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get to design it and buil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241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2589120"/>
          <a:ext cx="7772400" cy="28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89120"/>
                    <a:ext cx="777240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22:32:56Z</dcterms:created>
  <dc:creator>Thomas Levins</dc:creator>
  <dc:description/>
  <dc:language>en-US</dc:language>
  <cp:lastModifiedBy>Thomas Levins</cp:lastModifiedBy>
  <dcterms:modified xsi:type="dcterms:W3CDTF">2007-05-18T14:12:18Z</dcterms:modified>
  <cp:revision>3</cp:revision>
  <dc:subject/>
  <dc:title>The House Project </dc:title>
</cp:coreProperties>
</file>